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389-B5BD-4471-9DB6-2D9EE84D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AF1-9050-4A63-BB24-E44C7B51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4F0-5845-4C1F-9551-ADED69EA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0BB-9E90-46B8-A986-4D3D35E0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449-B77A-4A5A-9ACA-DB793E9B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6FA-8F83-4AB5-8B60-CF1C8EB9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C1E-9A92-4684-8B6B-472A432B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F7C-CBD5-43BF-BF38-8EF6C09F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D4B-3D88-40CA-9C3A-3C9D192B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4E8-A0C7-4AA5-B15E-91FF6B4B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B78-FC97-4307-A296-743DCD2A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C99-5154-4726-AC2B-1E1C928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r Re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8379-91EA-4907-9AEC-846173D3C75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orts Day Algeb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ught to you by THEMATH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your mark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t se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son runs 1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finishes 0.98 seconds quicker than Lew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Jason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mma runs 1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e finishes 1.96 seconds quicker than Der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Emma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y runs 2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knock a second off his time he would finish in 27.91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Billy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y runs 2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knock a second off her time she would finish in 35.59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Lucy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son runs 4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ing he runs the same speed around the track, he would pass half way in 34.28 se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Jason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rlotte runs 3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ing she runs the same speed around the track, she would pass half way in 26.99 se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Charlotte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 runs 8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beat the school record of 2min33secs by 0.92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om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hra runs 8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you extend her time by 5 secs you would get 3.09.9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Zahra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med runs 15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1 minute to his time and you get 6.36.4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Ahmed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otte runs 15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off 1 minute from her time and you get 5.51.3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Charlotte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H runs the 4x100m relay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ir time is 1.12 seconds over 1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8H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V runs the 4x100m relay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ir time is 6.02 seconds over 1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8V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A2 runs the 4x200m relay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ir time is exactly 5 seconds faster than 8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8A2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H runs the 4x200m relay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ir time is exactly 7 seconds less than two and a half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8H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up algebraic equations and solv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ndon successfully completes a high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s jump is 50mm lower than Kjell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the height of Brandon’s jump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loe successfully completes a high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 jump is 50mm higher than Jade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height of Chloe’s jump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ovan successfully completes a long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jump is 380mm over 3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Donovan’s jump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ma successfully completes a long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 jump is equal to the square root of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Emma’s jump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med completes a triple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smashes his Year 7 attempt of 9.97m by 87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Ahmed’s triple jump distance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hiannon completes a triple jump of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Jade’s distance and add 10cm to get Rhiannon’s j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Rhiannon’s triple jump distance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ilip throws the shot putt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triple Philip’s throw you would get a distance of 18.54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Philip’s th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yinade throws the shot putt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r winning throw was 29cm further than the competitor in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pl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the length of Oyinade’s th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son throws the discus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son’s record-breaking throw is equal to Reece’s and Rafet’s throws added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the length of Jason’s th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zabeth throws the discus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zabeth’s winning throw is twice the distance of Sophie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Elizabeth’s th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 throws the javelin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’s throw is greater than 21570mm but less than 2159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Tom’s throw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y throws the javelin D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y’s throw is greater than 8010mm but less than 803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length of Lucy’s throw in met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quiz is ov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t Reddy to check your answer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mean…get ready to check your answer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 1 -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– 13.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– 28.9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– 1.08.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– 2.32.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– 5.36.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– 1.01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 – 2.05.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– 15.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– 36.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– 53.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– 3.04.9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– 6.51.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– 1.06.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 – 2.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MATHI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’s theme is yesterday’s Sports Da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questions concern the Sports Day results of competitors in 8L, 8V, 8H and 8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7524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 8 -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 – 1.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9 – 3.3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0 – 10.8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1 – 6.1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2 – 25.8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3 – 21.5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 – 1.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9 –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0 – 6.7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1 – 6.4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2 – 14.1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3 – 8.0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d up the scores and write the total at the to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names have been written dow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zz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 the Planet Zog, there exists two brothers called Azog and Bozo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zog is older by only one ye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ir combined age is 903zogyears…can you find their individual ages before the end of the les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64360" y="209520"/>
            <a:ext cx="808200" cy="915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956720" y="-4680"/>
            <a:ext cx="792000" cy="12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149960" y="1031760"/>
            <a:ext cx="144792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14"/>
                </a:moveTo>
                <a:cubicBezTo>
                  <a:pt x="41" y="0"/>
                  <a:pt x="38" y="24"/>
                  <a:pt x="72" y="46"/>
                </a:cubicBezTo>
                <a:cubicBezTo>
                  <a:pt x="112" y="36"/>
                  <a:pt x="122" y="28"/>
                  <a:pt x="136" y="70"/>
                </a:cubicBezTo>
                <a:cubicBezTo>
                  <a:pt x="193" y="59"/>
                  <a:pt x="206" y="51"/>
                  <a:pt x="264" y="70"/>
                </a:cubicBezTo>
                <a:cubicBezTo>
                  <a:pt x="272" y="78"/>
                  <a:pt x="277" y="93"/>
                  <a:pt x="288" y="94"/>
                </a:cubicBezTo>
                <a:cubicBezTo>
                  <a:pt x="314" y="97"/>
                  <a:pt x="361" y="70"/>
                  <a:pt x="384" y="54"/>
                </a:cubicBezTo>
                <a:cubicBezTo>
                  <a:pt x="410" y="71"/>
                  <a:pt x="398" y="70"/>
                  <a:pt x="416" y="70"/>
                </a:cubicBezTo>
                <a:cubicBezTo>
                  <a:pt x="460" y="86"/>
                  <a:pt x="525" y="93"/>
                  <a:pt x="552" y="134"/>
                </a:cubicBezTo>
                <a:cubicBezTo>
                  <a:pt x="601" y="118"/>
                  <a:pt x="588" y="135"/>
                  <a:pt x="608" y="166"/>
                </a:cubicBezTo>
                <a:cubicBezTo>
                  <a:pt x="614" y="175"/>
                  <a:pt x="624" y="182"/>
                  <a:pt x="632" y="190"/>
                </a:cubicBezTo>
                <a:cubicBezTo>
                  <a:pt x="701" y="181"/>
                  <a:pt x="752" y="172"/>
                  <a:pt x="824" y="166"/>
                </a:cubicBezTo>
                <a:cubicBezTo>
                  <a:pt x="832" y="163"/>
                  <a:pt x="840" y="158"/>
                  <a:pt x="848" y="158"/>
                </a:cubicBezTo>
                <a:cubicBezTo>
                  <a:pt x="881" y="158"/>
                  <a:pt x="912" y="186"/>
                  <a:pt x="912" y="12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[Hint]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l Azog’s age 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would Bozog’s age be in terms of 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t up an algebraic equation and sol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 A = Azog’s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n A+1 = Bozog’s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+ A + 1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= 9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A + 1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= 9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= 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= 4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 Azog is 451 and Bozog is 4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zz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 the Planet Zog, there exists two brothers called Azog and Bozo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zog is older by only one ye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ir combined age is 903zogyears…can you find their individual ages before the end of the les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209520"/>
            <a:ext cx="808200" cy="91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56720" y="-4680"/>
            <a:ext cx="792000" cy="1272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49960" y="1031760"/>
            <a:ext cx="1447920" cy="301680"/>
          </a:xfrm>
          <a:custGeom>
            <a:avLst/>
            <a:gdLst/>
            <a:ahLst/>
            <a:rect l="l" t="t" r="r" b="b"/>
            <a:pathLst>
              <a:path w="912" h="190">
                <a:moveTo>
                  <a:pt x="0" y="14"/>
                </a:moveTo>
                <a:cubicBezTo>
                  <a:pt x="41" y="0"/>
                  <a:pt x="38" y="24"/>
                  <a:pt x="72" y="46"/>
                </a:cubicBezTo>
                <a:cubicBezTo>
                  <a:pt x="112" y="36"/>
                  <a:pt x="122" y="28"/>
                  <a:pt x="136" y="70"/>
                </a:cubicBezTo>
                <a:cubicBezTo>
                  <a:pt x="193" y="59"/>
                  <a:pt x="206" y="51"/>
                  <a:pt x="264" y="70"/>
                </a:cubicBezTo>
                <a:cubicBezTo>
                  <a:pt x="272" y="78"/>
                  <a:pt x="277" y="93"/>
                  <a:pt x="288" y="94"/>
                </a:cubicBezTo>
                <a:cubicBezTo>
                  <a:pt x="314" y="97"/>
                  <a:pt x="361" y="70"/>
                  <a:pt x="384" y="54"/>
                </a:cubicBezTo>
                <a:cubicBezTo>
                  <a:pt x="410" y="71"/>
                  <a:pt x="398" y="70"/>
                  <a:pt x="416" y="70"/>
                </a:cubicBezTo>
                <a:cubicBezTo>
                  <a:pt x="460" y="86"/>
                  <a:pt x="525" y="93"/>
                  <a:pt x="552" y="134"/>
                </a:cubicBezTo>
                <a:cubicBezTo>
                  <a:pt x="601" y="118"/>
                  <a:pt x="588" y="135"/>
                  <a:pt x="608" y="166"/>
                </a:cubicBezTo>
                <a:cubicBezTo>
                  <a:pt x="614" y="175"/>
                  <a:pt x="624" y="182"/>
                  <a:pt x="632" y="190"/>
                </a:cubicBezTo>
                <a:cubicBezTo>
                  <a:pt x="701" y="181"/>
                  <a:pt x="752" y="172"/>
                  <a:pt x="824" y="166"/>
                </a:cubicBezTo>
                <a:cubicBezTo>
                  <a:pt x="832" y="163"/>
                  <a:pt x="840" y="158"/>
                  <a:pt x="848" y="158"/>
                </a:cubicBezTo>
                <a:cubicBezTo>
                  <a:pt x="881" y="158"/>
                  <a:pt x="912" y="186"/>
                  <a:pt x="912" y="12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[Hint]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l Azog’s age 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would Bozog’s age be in terms of 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t up an algebraic equation and sol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of result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iled in a weather-related acc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results are now mi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help putting it back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in pairs or thre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ys have separate questions from the gir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 seconds for each ques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ze for teams with most correct answ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event of a draw there will be a tie breaker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actice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erre runs 1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e ran twice the distance at the same speed it would take him 32.06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Pierre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hiannon runs 100m in T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he ran twice the distance at the same speed it would take her 32.06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Rhiannon’s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= running time over 100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L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32.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16.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ierre’s time is 16.03 se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= running time over 100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L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32.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16.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hiannon’s time is 16.03 se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8:13:34Z</dcterms:created>
  <dc:creator>Bruno Reddy</dc:creator>
  <dc:description/>
  <dc:language>en-US</dc:language>
  <cp:lastModifiedBy>Bruno Reddy</cp:lastModifiedBy>
  <dcterms:modified xsi:type="dcterms:W3CDTF">2005-07-05T19:07:24Z</dcterms:modified>
  <cp:revision>10</cp:revision>
  <dc:subject/>
  <dc:title>Sports Day Algebra</dc:title>
</cp:coreProperties>
</file>